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BBE-D6E6-429D-A949-1B4062FD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DB4-3BDE-4224-89E3-D07DA366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C18-0378-473D-BB15-872C236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18C-4AE9-4DEC-B723-BC05B616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0A166-E304-4523-8E07-1629D3F5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0EFB4-3D84-4F4C-8D50-B844AFEE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CC4D-792A-449D-98C0-8633E55C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D51E4-E517-4E92-AEA1-33FEBC19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A36EA-93EF-480D-9EE1-47DA893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54CC-1243-4E2D-AE7C-FE529F24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D2FCE-943F-49D9-9382-086B20E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BF7-68E7-41F0-A5D0-EF4A03F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5800-8C9D-4853-AD61-BD3FCA8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A0882-C302-4C7B-9905-0D49E8DC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8499-483D-4E70-8363-C34F8F9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FCC42-C8A5-4E85-9B47-CC21CE1C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F08E3-1399-406D-B983-E011F633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FF8-406A-4A61-AFB1-A79DE7D8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AF1-C60B-4D31-8EE0-47674887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B79-F3B0-4CB5-B9ED-69C3ED8F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B46-7B12-4A8D-BC46-45B63345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D3E-761B-4AB1-96EA-D6F52D7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259-77CA-4F21-BC0D-FE19219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9A7-32BD-4BE1-B7DA-8607B6D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2F11-39D1-48C1-9942-D04BB9B2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DFDD-F8AE-4982-8738-98C6047DBC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lf-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6278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ss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f-contro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bility to control your behavior regardless of what you are thinking or feel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BEHAVIOR CHECKLIST SCOR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ss than 10= high self-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1 &amp; 15= self-control is lacking at ti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16 &amp; 20= self-control needs 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tween 21 &amp; 30= self-control needs A LOT of wor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siv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standing up for what you w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gressiv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shy and offens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sertiv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ear and confid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- say something about the person with whom you are speaking; compliment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 say something about how you feel about the situation; use an “I”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- say what you want them to do in the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8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438280" y="304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057400" y="457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ATEMENTS: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7:47Z</dcterms:modified>
  <cp:revision>18</cp:revision>
  <dc:subject/>
  <dc:title>Project TND  (Project Towards No Drug Abuse)</dc:title>
</cp:coreProperties>
</file>